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F21B-838F-472C-985A-3C6DD4319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D623-B2FB-493B-8D39-8D251193C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949E-F5F1-4E23-9726-37292BF4D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90DB-65A9-4657-B08F-AA3E52905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1899-221A-44C8-BBB7-879B78CFF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9765-6399-4550-9FB4-0FC87156C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CCCD-C0A5-45A3-9CF1-1783CC5F6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8A5B-4344-4E7A-BBFB-1A6676B51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885B-FE8B-4DC2-95F6-21E9C7658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0A45-C3C3-4A4C-BD75-F6C816050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2DCA-AF8A-4555-8465-A3CD2A477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FE32-41EC-4480-94CF-03E4FCA5F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50000">
              <a:srgbClr val="ffffff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FF73A-F5E6-4551-8793-2DBB0BCBDCC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9.xm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50000">
              <a:srgbClr val="ffffff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6685" t="0" r="3543" b="1745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50000">
              <a:srgbClr val="ffffff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rcRect l="14779" t="0" r="0" b="0"/>
          <a:stretch/>
        </p:blipFill>
        <p:spPr>
          <a:xfrm>
            <a:off x="684360" y="3213000"/>
            <a:ext cx="1865160" cy="31863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84360" y="57168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rcRect l="0" t="34918" r="0" b="0"/>
          <a:stretch/>
        </p:blipFill>
        <p:spPr>
          <a:xfrm>
            <a:off x="6237360" y="2205000"/>
            <a:ext cx="2438280" cy="22813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276720" y="479736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20dd1"/>
                </a:solidFill>
                <a:latin typeface="Arial"/>
                <a:ea typeface="楷体_GB2312"/>
              </a:rPr>
              <a:t>与此同时，鲜花凋谢，树叶飘落，花园又被冰雪覆盖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708360" y="2997360"/>
            <a:ext cx="1708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Arial"/>
                <a:ea typeface="黑体"/>
              </a:rPr>
              <a:t>对比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49360"/>
            <a:ext cx="799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巨人激动地跑到花园里，他看到花园里草翠花开，有许多孩子在欢快地游戏，他们大概是从围墙的破损处钻进来的。孩子们的欢笑使花园增添了春意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50000">
              <a:srgbClr val="ffffff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5327640" y="0"/>
            <a:ext cx="3816360" cy="27702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611280" y="2997360"/>
            <a:ext cx="813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从那以后，巨人的花园又成了孩子们的乐园。孩子们站在巨人脚下，爬上巨人的肩膀，尽情地玩耍。巨人生活在漂亮的花园和孩子们中间，感到无比的幸福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50000">
              <a:srgbClr val="ffffff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rcRect l="0" t="70330" r="0" b="0"/>
          <a:stretch/>
        </p:blipFill>
        <p:spPr>
          <a:xfrm>
            <a:off x="0" y="5084640"/>
            <a:ext cx="9144000" cy="18097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947960" y="385920"/>
            <a:ext cx="5200560" cy="46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从前，</a:t>
            </a:r>
            <a:r>
              <a:rPr b="0" lang="zh-CN" sz="2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当巨人外出时，花园如此美丽，常年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            ）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巨人回来，赶走了孩子，砌上围墙，竖起一块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“</a:t>
            </a:r>
            <a:r>
              <a:rPr b="0" lang="zh-CN" sz="2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禁止入内”的告示牌。春天终于来了，可花园里天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天（                ）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当可爱的孩子从围墙的破损处钻进来玩耍，花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园里（              ）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就在巨人训斥孩子，孩子们纷纷逃窜的同时，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花园里（             ）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最后，当巨人拆除围墙，把花园给了孩子，花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园又</a:t>
            </a:r>
            <a:r>
              <a:rPr b="0" lang="zh-CN" sz="2700" spc="-1" strike="noStrike">
                <a:solidFill>
                  <a:srgbClr val="000000"/>
                </a:solidFill>
                <a:latin typeface="Arial"/>
                <a:ea typeface="楷体_GB2312"/>
              </a:rPr>
              <a:t>成了</a:t>
            </a:r>
            <a:r>
              <a:rPr b="0" lang="zh-CN" sz="2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        ）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3880" y="888840"/>
            <a:ext cx="185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黑体"/>
              </a:rPr>
              <a:t>洋溢着孩子们欢乐的笑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914480" y="211284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黑体"/>
              </a:rPr>
              <a:t>狂风大作，雪花飞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163960" y="29052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黑体"/>
              </a:rPr>
              <a:t>草翠花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490840" y="376884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黑体"/>
              </a:rPr>
              <a:t>鲜花凋谢，树叶飘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629080" y="458136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黑体"/>
              </a:rPr>
              <a:t>孩子们的乐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50000">
              <a:srgbClr val="ffffff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258920" y="765000"/>
            <a:ext cx="730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  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唤来寒冬的，是我那颗任性、冷酷的心啊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50000">
              <a:srgbClr val="ffffff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rcRect l="0" t="70330" r="0" b="0"/>
          <a:stretch/>
        </p:blipFill>
        <p:spPr>
          <a:xfrm>
            <a:off x="0" y="5084640"/>
            <a:ext cx="9144000" cy="18097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324000" y="333360"/>
            <a:ext cx="882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谁允许你们到这儿来玩的！都滚出去！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2060640"/>
            <a:ext cx="87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320dd1"/>
                </a:solidFill>
                <a:latin typeface="楷体_GB2312"/>
                <a:ea typeface="楷体_GB2312"/>
              </a:rPr>
              <a:t>好容易才盼来春天，你们又来胡闹。滚出去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50920" y="4309200"/>
            <a:ext cx="88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“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喂！你赶快滚出去！”巨人大声叱责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50000">
              <a:srgbClr val="ffffff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746160" y="2133720"/>
            <a:ext cx="3746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想一想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花园为什么有这么大的变化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50000">
              <a:srgbClr val="ffffff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rcRect l="3727" t="0" r="3169" b="1184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7758000" y="5472000"/>
            <a:ext cx="1386000" cy="13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6" dur="302002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50000">
              <a:srgbClr val="ffffff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>
            <a:lum bright="54000"/>
          </a:blip>
          <a:srcRect l="3727" t="0" r="3169" b="1184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50920" y="2565360"/>
            <a:ext cx="889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Arial"/>
                <a:ea typeface="黑体"/>
              </a:rPr>
              <a:t>恳请批评指正！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50000">
              <a:srgbClr val="ffffff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132000" y="1557360"/>
            <a:ext cx="518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默读全文，找找文中几次写到了巨人的花园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50000">
              <a:srgbClr val="ffffff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00000" y="2924280"/>
            <a:ext cx="7499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从前，一个小村子里有座漂亮的花园。那里，春天鲜花盛开，夏天绿树成阴，秋天鲜果飘香，冬天白雪一片。村里的孩子都喜欢到那里玩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076720" y="0"/>
            <a:ext cx="381636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50000">
              <a:srgbClr val="ffffff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734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474440" y="530856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花园里常年洋溢着孩子们欢乐的笑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332000" y="1197000"/>
            <a:ext cx="3529080" cy="177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0" spc="-1" strike="noStrike">
                <a:solidFill>
                  <a:srgbClr val="ff0000"/>
                </a:solidFill>
                <a:latin typeface="Arial"/>
                <a:ea typeface="楷体_GB2312"/>
              </a:rPr>
              <a:t>洋 溢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50000">
              <a:srgbClr val="ffffff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327640" y="-171360"/>
            <a:ext cx="3816360" cy="27702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79280" y="2852640"/>
            <a:ext cx="8353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但不知为什么，巨人的花园里仍然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冬天，天天狂风大作，雪花飞舞。巨人裹着毯子，还瑟瑟发抖。他想：“今年的春天为什么这么冷，这么荒凉呀……”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50000">
              <a:srgbClr val="ffffff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327640" y="-243000"/>
            <a:ext cx="3816360" cy="27702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900000" y="4316400"/>
            <a:ext cx="813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但不知为什么，巨人的花园里仍然是冬天，天天狂风大作，雪花飞舞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26920" y="2516040"/>
            <a:ext cx="78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6600"/>
                </a:solidFill>
                <a:latin typeface="Arial"/>
                <a:ea typeface="楷体_GB2312"/>
              </a:rPr>
              <a:t>春天终于来了，村子里又开出美丽的鲜花，不时传来小鸟的欢叫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54200" y="549360"/>
            <a:ext cx="2009520" cy="825120"/>
          </a:xfrm>
          <a:prstGeom prst="rect">
            <a:avLst/>
          </a:prstGeom>
          <a:solidFill>
            <a:srgbClr val="320d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对比的写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50000">
              <a:srgbClr val="ffffff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34918" r="0" b="0"/>
          <a:stretch/>
        </p:blipFill>
        <p:spPr>
          <a:xfrm>
            <a:off x="6705720" y="4576680"/>
            <a:ext cx="2438280" cy="22813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66560" y="765000"/>
            <a:ext cx="8677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他抬头望去，一缕阳光从窗外射进来。好几个月没见过这么明媚的阳光了。巨人激动地跑到花园里，他看到花园里草翠花开，有许多孩子在欢快地游戏，他们大概是从围墙的破损处钻进来的。孩子们的欢笑使花园增添了春意。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50000">
              <a:srgbClr val="ffffff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rId1" action="ppaction://hlinksldjump"/>
          </p:cNvPr>
          <p:cNvSpPr/>
          <p:nvPr/>
        </p:nvSpPr>
        <p:spPr>
          <a:xfrm>
            <a:off x="3348000" y="476280"/>
            <a:ext cx="5562720" cy="52578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0" spc="-1" strike="noStrike">
                <a:solidFill>
                  <a:srgbClr val="ff0000"/>
                </a:solidFill>
                <a:latin typeface="Arial"/>
                <a:ea typeface="楷体_GB2312"/>
              </a:rPr>
              <a:t>媚</a:t>
            </a:r>
            <a:endParaRPr b="0" lang="en-US" sz="3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348000" y="2997360"/>
            <a:ext cx="5545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156360" y="476280"/>
            <a:ext cx="0" cy="5257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260280"/>
            <a:ext cx="3097080" cy="5616720"/>
          </a:xfrm>
          <a:prstGeom prst="verticalScroll">
            <a:avLst>
              <a:gd name="adj" fmla="val 12500"/>
            </a:avLst>
          </a:prstGeom>
          <a:solidFill>
            <a:srgbClr val="ff99ff">
              <a:alpha val="3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0" spc="-1" strike="noStrike">
                <a:solidFill>
                  <a:srgbClr val="000000"/>
                </a:solidFill>
                <a:latin typeface="Arial"/>
                <a:ea typeface="楷体_GB2312"/>
              </a:rPr>
              <a:t>明媚</a:t>
            </a:r>
            <a:endParaRPr b="0" lang="en-US" sz="1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>
            <a:hlinkClick r:id="rId2" action="ppaction://hlinksldjump"/>
          </p:cNvPr>
          <p:cNvSpPr/>
          <p:nvPr/>
        </p:nvSpPr>
        <p:spPr>
          <a:xfrm>
            <a:off x="4284720" y="6237360"/>
            <a:ext cx="1547640" cy="620640"/>
          </a:xfrm>
          <a:prstGeom prst="ellipse">
            <a:avLst/>
          </a:prstGeom>
          <a:solidFill>
            <a:srgbClr val="fcfe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下一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50000">
              <a:srgbClr val="ffffff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50920" y="549360"/>
            <a:ext cx="8893080" cy="764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ff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0" lang="zh-CN" sz="4400" spc="-1" strike="noStrike">
                <a:solidFill>
                  <a:srgbClr val="320dd1"/>
                </a:solidFill>
                <a:latin typeface="Arial"/>
                <a:ea typeface="楷体_GB2312"/>
              </a:rPr>
              <a:t>与此同时，鲜花凋谢，树叶飘落，花园又被冰雪覆盖了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99080" y="3357720"/>
            <a:ext cx="1095120" cy="1922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ff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0" spc="-1" strike="noStrike">
                <a:solidFill>
                  <a:srgbClr val="ff0000"/>
                </a:solidFill>
                <a:latin typeface="Arial"/>
                <a:ea typeface="楷体_GB2312"/>
              </a:rPr>
              <a:t>覆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7T13:14:34Z</dcterms:created>
  <dc:creator>微软用户</dc:creator>
  <dc:description/>
  <dc:language>en-US</dc:language>
  <cp:lastModifiedBy>USER</cp:lastModifiedBy>
  <dcterms:modified xsi:type="dcterms:W3CDTF">2012-09-03T08:16:32Z</dcterms:modified>
  <cp:revision>89</cp:revision>
  <dc:subject/>
  <dc:title>幻灯片 1</dc:title>
</cp:coreProperties>
</file>